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FE37-1773-46C4-B89B-BE009315E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53A1-E9AB-44E8-9116-767B7055A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6750-0564-48FE-88B1-93CCA0BFB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D3D4-19F7-459A-86C2-12329D834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FFDD-0B7D-4AEE-9930-C5EB3BB36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7FEA8-4D86-4184-B9C3-859D0F3BF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E3498-43FE-4749-BEF5-4566375E1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CF459-8449-4EE5-85AE-5FBF6E59D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30B68-C5EB-4C15-8542-2F3FF9E239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EC5BB-F893-42F6-BCAA-6731C6C5C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F87E3-6C55-47A3-8AFC-A264F7FD5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15C7-8ADF-43E4-80A1-573BDD5CB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FB466-43B9-4949-AEC0-9D3B136D1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60ADE-6408-46AA-8C8F-A5D50566A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58FFE-B5CC-4CFA-8E5D-BC0F19AD8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D4558-905A-49EC-8955-F6420F244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544FB-FFB3-4830-B9B6-94A2F211B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2F67-6BC2-4258-8C04-507EF9D91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2180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dcterms:modified xsi:type="dcterms:W3CDTF">2008-06-04T19:47:11Z</dcterms:modified>
  <cp:revision>83</cp:revision>
  <dc:subject/>
  <dc:title>AT Basic System Example</dc:title>
</cp:coreProperties>
</file>