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5CC31-30B2-436D-AD49-2F7BCDA49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483E6-DF0B-4703-A327-7703E661B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20897-23A3-488C-AD5C-71FEDB041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40A82-6C42-48C0-BDB8-189235277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A3D9F-5A8E-4063-AD36-1B36154E9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0AD05-EF8D-43DF-9025-278BF33178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8AE3C-AC6F-4DDF-9892-7DD6501F7B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C1A77-563E-41DB-BF23-200CB8172D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C7873-2BB6-4B09-BBDC-BEE3FADBD0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461B4-EF7A-4736-966C-F024862301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AAED4-F92C-4B51-98B0-D5C57DCE3B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E678F-D860-4398-A98D-C3159211B6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AB429-BA55-4BDD-9262-A4219D5586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F918E-F239-432A-B95B-A8139091EC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DBB7F-CFA8-4BBC-A032-9D07A85871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8F7DA-F0AB-44C2-AE2F-8E5239D144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CAF03-C122-4309-9E39-53A9870760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B5C0B-F0C7-4AF4-8904-0FBA131555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47:01Z</cp:lastPrinted>
  <dcterms:modified xsi:type="dcterms:W3CDTF">2008-06-05T12:39:23Z</dcterms:modified>
  <cp:revision>85</cp:revision>
  <dc:subject/>
  <dc:title>AT Basic System Example</dc:title>
</cp:coreProperties>
</file>