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1315-1BEE-48C4-B4F9-25A97AC9E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22C2-7D90-43BF-8A93-19986D4FB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46B8-3F07-49D3-B296-AA4831ADE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21DA-ED53-4B6D-A3DA-CBD82BA03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5900-1D9E-424D-9F32-B7BB23277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F289-811F-4598-B799-2F9F65BC8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BD5A-DEB2-480D-B37E-4D09248BE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9A6F-80B2-4A77-AD84-32C2E8789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79E72-7EF5-4267-9413-76C69B5A5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F01C-2776-4CF2-9FFA-88CF9BE6A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C5AF-B3CC-4E33-BB32-3D98DF08B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26F93-F16F-479B-86A8-CFC3BAC526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DF941-AB8C-4155-A1D8-0CEEE0A754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29BE4-6460-4BB9-9B57-A467DE80B4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EDDE8-7AE1-4D5C-82A4-D8192EEB9C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8BDF3-275C-49E9-B2E1-DA9507AE82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0026C-69C4-484E-B799-200A7708E7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E2273-D281-485B-AC34-2D63CD2122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46E48-138A-46BC-858E-286A3E8261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B9FC9-564A-40B7-B0FF-B7781F8A73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26828-45C0-430D-A618-E90BDF1CCC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261F6-CF3F-490B-9B34-6A00E6D350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3132C-2C9B-4932-B3EB-1E443D6ECB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79EFB-D7D0-44DC-AEFE-C38BC6DC0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AD229-F835-4655-A957-751C15BF7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26262-47FD-4034-96B3-B1951731E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232C4-FFF2-4547-94BE-A73C7F62C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C516B-7272-460C-A416-863871AC2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844B3-BA80-4ED5-884F-3ED248AD6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1CB1-B57D-4A11-989F-CDC0E3C51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FB42-D954-481A-A446-BDD5E94A5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32FF-289E-4356-BEA5-BFA833AC5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A5F4-5AAB-47E4-896A-68DA4F8DB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1DCA-E3BF-42D1-B47D-0C81B6116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CD35-1163-4B52-937D-F0D6E20EF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1191-DD35-4C9B-91CC-FD03043CE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6851-1AA3-4AB6-8CE6-342E14C56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EB17-3F76-4141-AEA2-83FE8362B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BCBB-B2F4-4A5A-8A30-A8E583192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7988-0810-44D9-BA34-1279B696C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6DF1-5F95-4009-8574-40EA71D08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16D7-096E-4148-B230-7AC93B02E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B9F5-25AB-45B1-B22D-7F135DC33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9B65-6AF5-4156-80BE-067E09E49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9520" y="928800"/>
            <a:ext cx="3903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tra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F9BD-B916-43FD-A351-90EC4BBBC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6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8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4B87-5945-42C4-B432-17384BDCC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243B-C39C-4186-9E30-278316EF1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2AEF-3B1A-4B2F-9CB0-768D00E04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5D30-D4EA-4227-9F25-BB8702970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A491-66B8-476E-9968-5FE770F02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11C9-CC59-4879-BC2D-5AE060B29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55E0-11D7-4BDD-B306-C002FEE66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DF82-9C4E-46D4-A6C2-1ACEDE910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903D-C5B3-4C5B-B543-6471FF885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1133-9B98-420E-8DFB-CD4B69157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1535-8894-4DBA-B794-9046711B6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103D-A56D-400B-BE17-3D93F52B4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648000" y="4616280"/>
            <a:ext cx="2020320" cy="736200"/>
            <a:chOff x="648000" y="4616280"/>
            <a:chExt cx="2020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648000" y="5045400"/>
              <a:ext cx="2020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u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6880" y="4616280"/>
              <a:ext cx="105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u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FE48-0366-4441-99F5-4B11F6C06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ADD7-0936-433D-936E-1F54C2C05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1431-66EE-4BED-B548-7D7E62A2A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C0BF-A1CD-41C5-A69D-CE9793DF5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D90B-509C-451C-B053-FC24A0434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480"/>
            <a:chOff x="3665520" y="5286240"/>
            <a:chExt cx="4780080" cy="40248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016600" y="538164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8943-82E2-4428-962F-24537F654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423680" y="4519440"/>
              <a:ext cx="322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7CAA-3610-4CD3-A8B1-9D36D96BC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9C81-9E71-4FBB-9274-457B23ABD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1FA6-6E74-491D-8645-52E832379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5056-4EEB-4B08-A44F-C555D0464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57DD-3648-4238-94BA-185B4982F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6781-0858-4147-BF39-14E66841B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66AA-71C7-4D5E-9C68-661DA6FDC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17FD-ED1E-4F98-8979-32561091C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34A0-0D2F-4209-8523-233281AAD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4030-640B-46F9-BD35-078C8B6C7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3352-3136-428B-95B5-623EB3933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4FD0-D383-44FD-83DA-AE794A028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3F62-9E28-4F5C-9808-6F3C66F02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E553-ACB5-4DC3-A9C1-2F24148E1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FC8E-1536-43FA-B40B-2386C4430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364D-FDBF-42ED-AB2B-E27618A95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4928-EB12-4FBF-A06C-581E2B118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50F5-F291-4F45-B1D8-2D8C17DB3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70A1-4E27-43E0-9976-421962EFE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36B3-1DAC-4D0A-9010-346AA2A13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EC85-42F1-4739-892B-FC7068484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1A88-7DAE-4D93-AAE2-09A7FB9F9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F768-3CF0-4FE3-9E94-D4BB606AD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8F6B-54A7-4132-988D-816C19FDD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511E-50E0-4C99-B3BD-B9E32A116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36DA-B265-47A4-A8B9-44BC7FC30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8FD7-05A4-4BD8-A754-10555A9E8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091E-ABB0-4490-AEB5-EB6BC5C2B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6B76-D3E1-411D-B90E-AEB0E5560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5E64-52E1-4F9B-91B6-60694EF69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BA32-C142-4B9A-A2C0-4D404D5D9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into(tlm_generic_payload&amp; other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1441-E659-4DC7-AFC9-70EFD36D1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CCB7-AC15-4035-88F7-33E22C7C2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757F-910D-490E-B871-FEC6AB945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BC9F-9FA0-40C0-9889-31D1F5B19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5494-0594-4479-846E-129713F1C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4D02-6A84-47CC-8452-8CF34CE7E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1D53-E586-4DB7-A0D2-E84A12C5E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8307-8801-49B0-8864-C574E2331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98D1-6C70-40DA-8467-E1A3A45FE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0007-CEF0-4978-B9F2-B283D6D30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1CFA-45F9-44A9-9D3C-A51CA3A9C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4623-4855-40BC-872D-02920EB60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0DBE-C7C0-4512-9680-04460174A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F54A-A290-4BC2-BB96-160E02FCE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6D99-03BC-4BBF-B589-3F40BB3B2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304920" y="1279440"/>
            <a:ext cx="8510400" cy="41576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CA7D-F82A-453E-800F-F4E372166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4E08-2443-4DF5-B735-88EA006B5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69FB-BFBC-4C73-A988-2671B63F7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392040" y="857160"/>
            <a:ext cx="652104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new tlm_generic_payload( mem_mgr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62E6-93E6-4D95-8070-B4BBF0C9D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A274-CF08-4B5C-A1E8-2AC17F025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2BF6-B789-446C-82C5-F00D7A5F4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46DF-95CB-45C9-A2DE-F213A3F25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40AA-65F6-4172-9EF1-CA56EB1E7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C898-B2B0-4A14-9706-C82F7E00F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5084-3553-4237-BECB-13664E99F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5F24-A715-4C69-B258-156CD2B03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FE0A-2BFB-418C-AD7F-5CE70BB3D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62C8-D84B-4542-A335-045A67FDE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9BBD-81E7-4415-8257-82B258AD6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2815-C354-4B2B-9CB0-224B6CECF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DB61-9A36-402E-84E6-95544DC71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8DE6-1ACD-4405-A42B-4F1FD6360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83E8-490A-4475-BD5A-C08247D95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B9CD-1FBD-4138-8F3F-0FDA8F828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1021-4D7C-45AF-88F7-C1F16F750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E5AB-090B-4A25-AED5-578443A7B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CD34-22EF-44AC-AFDD-90131BCB5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 </cp:lastModifiedBy>
  <cp:lastPrinted>2002-03-05T00:56:29Z</cp:lastPrinted>
  <dcterms:modified xsi:type="dcterms:W3CDTF">2008-06-06T08:52:13Z</dcterms:modified>
  <cp:revision>1580</cp:revision>
  <dc:subject/>
  <dc:title>TLM WG Status 07032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10917829</vt:r8>
  </property>
  <property fmtid="{D5CDD505-2E9C-101B-9397-08002B2CF9AE}" pid="3" name="_AuthorEmail">
    <vt:lpwstr>bart@CoWare.com</vt:lpwstr>
  </property>
  <property fmtid="{D5CDD505-2E9C-101B-9397-08002B2CF9AE}" pid="4" name="_AuthorEmailDisplayName">
    <vt:lpwstr>Bart Vanthournout</vt:lpwstr>
  </property>
  <property fmtid="{D5CDD505-2E9C-101B-9397-08002B2CF9AE}" pid="5" name="_EmailSubject">
    <vt:lpwstr>TLM-2.0 Presentation ja6.ppt</vt:lpwstr>
  </property>
</Properties>
</file>