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2D17-27DA-434D-BAD9-3FA9CEFBA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43E88-EBAD-47C5-AD35-33CC5ECFE0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CEFAC-588C-4548-B3EC-D244FB36CB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18342-1BDF-450D-A057-02403F8BE6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B7C86-6C96-4A4C-B291-B874725C35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77E95-E035-4B88-BCBB-CDE312621C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4CB5E-1BF2-4EDD-BA6E-8348401BCF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5511F-B0F7-4B61-AF3D-50D36B9493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41C9B-61FA-4D80-A381-B5F9C42FB2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C2740-17F5-46C0-A90F-EEC08A3302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F171D-47A2-4D98-8805-93B73B46B5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4BB03-F9A5-4ABA-A58F-93C2ECAEED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1D42B-35D4-4AA9-B8FB-3C58DEF62C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1364-8E01-40E9-BE8A-2E1FAA494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6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7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4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1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6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0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1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8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endCxn id="28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7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0" name=""/>
            <p:cNvCxnSpPr>
              <a:stCxn id="28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3" name=""/>
            <p:cNvCxnSpPr>
              <a:stCxn id="29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9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5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6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0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8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7" idx="0"/>
            <a:endCxn id="13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40" idx="2"/>
            <a:endCxn id="14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40" idx="0"/>
            <a:endCxn id="14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45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6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8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49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2"/>
            <a:endCxn id="15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52" idx="0"/>
            <a:endCxn id="15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8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6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2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5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7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6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1"/>
            <a:endCxn id="236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39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0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42" idx="1"/>
            <a:endCxn id="236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5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Jack Donovan</cp:lastModifiedBy>
  <dcterms:modified xsi:type="dcterms:W3CDTF">2008-06-05T21:45:26Z</dcterms:modified>
  <cp:revision>77</cp:revision>
  <dc:subject/>
  <dc:title>AT Basic System Example</dc:title>
</cp:coreProperties>
</file>