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49424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896677-E0D9-4852-8FCD-856FC69EDF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E47E9A-43E5-41C6-8691-F5689EC3D2E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9000DF-7B6A-4ED4-B62F-7DC8268C319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23C493-7A4D-4251-B736-32C34D58BFD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A1577B-1DAA-4902-9A88-2E0045207AE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A28ADF-DF38-4DB2-82D8-3A783CA0425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19F94E-95D5-4E9B-9516-1F2BA90B88C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C27EB6-CC74-4C7D-9587-3531565BAA5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E80B1A-ED00-4035-8B32-4B60FA4D89B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0AA30C-17B3-4330-B2C7-90684B648FA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73C186-C6AB-4971-BABD-9396B7AE2B4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40E5CC-A5B3-49D5-AB7D-F0B7132895F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05684E-0367-42E3-98F6-8715624E7C7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A44D2C-3CB7-4E7D-A67C-A826427E2A1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8320B5-C121-474F-9E74-AAD856BDE40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12B5D7-5002-4438-9B12-F0C5B423E43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D3C2A1-0B6C-4BB0-BFA0-9C93A2A3FE7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3E983D-97FC-4612-B3E0-F0B4AFE5975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EC034B-F57A-452C-BE74-A0DCD4D55FE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36A4B7-D6F5-4ED9-8919-93E6AD21235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303BC4-7EE0-4F82-8E76-47E5AF992E7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8CC639-D198-4AC2-A773-BA364780ADF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954D20-CF05-4F2A-93C9-41812CACF9E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8817A4-1D00-477A-8868-5E29984ED81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C5A368-BC7B-4D02-9944-E09EACB4862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628237-62EF-4776-8588-AF5B28162EC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D78F0A-DF5E-4618-AC6D-DE422D59863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6FABF9-C3F2-4F3A-81F9-07093FA68A6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F8288C-853D-4FEE-8D2D-0342F80511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33D9EA-621C-4893-82D5-FA1B7311027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79D29E-5217-4BF3-906F-962A1F164EE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447BA7-AAD3-44BB-8FF2-A895D8A24F8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6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DF6859-FFDE-4492-A12A-58F5449671C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648C32-2268-4D82-997E-59617F9C5D4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C1BEE0-0800-4261-AA1C-86830651A47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53CD9-6CB0-414F-9331-9ACE6F5834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D570D-018D-4A2D-9395-937C70CA74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C6211-9B8D-4BA0-BA05-318FBE9A28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DA0F1-917D-41EF-9F9E-D69C1EB1BD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33440-2ACB-43F2-90D9-8011B4BE70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9D08C-F01B-462E-984C-8210810135A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E3514-827F-4743-893B-3B94911CD88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5B419-B21A-4E97-B9F1-6B6FC0BD5FE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B2CB0-7504-495A-9285-68E04C94BE9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464FE-F2A3-4DCA-AC9B-B0483A24D4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B963A-8897-4055-97C4-6DF5FCB389F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0588E-84D0-4B79-999D-CAF43759333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98B06-699D-4D42-860E-C3C3741C95D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BCF44-0803-47D6-8604-B26A15EDA06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FFA09-31F4-4977-8F84-04A8ED27206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88299-87C1-494C-9E3C-7C404A352B9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BA022-9017-4F98-A1C4-07AA922ADE6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CCAAE-C0C6-439F-9D0B-CBB7D26659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5E7BE-3D47-4892-AA4C-A952382BB1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E702A-1E67-4697-A68E-91DE70B41F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65842-799D-4995-A445-F0600429ED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27A35-ACF2-4321-8B7A-87BE96C144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50F6A-EFB6-43B4-98F1-47E8C1866C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74AB3-5DEB-4CC3-81C1-4DEE89D404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ECF270-C76E-4080-81E6-190A4C861C9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CDE5628E-789E-4CD2-B9A2-38D09110122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Tracing Parameter Activity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v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Retrieving handle for newly created cci_parame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Parameter Name : param_owner.doubl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has been creat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Parameter Value : 12.34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Registering other callbacks on the newly created cci-paramete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racing Parameter Activit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Configurator perspective: show how to use the parameter creation callback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Report the creation and modification of paramete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3"/>
          <p:cNvSpPr/>
          <p:nvPr/>
        </p:nvSpPr>
        <p:spPr>
          <a:xfrm>
            <a:off x="609480" y="3733920"/>
            <a:ext cx="28958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Rectangle 34"/>
          <p:cNvSpPr/>
          <p:nvPr/>
        </p:nvSpPr>
        <p:spPr>
          <a:xfrm>
            <a:off x="6095880" y="3733920"/>
            <a:ext cx="26672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Rectangle 37"/>
          <p:cNvSpPr/>
          <p:nvPr/>
        </p:nvSpPr>
        <p:spPr>
          <a:xfrm>
            <a:off x="457200" y="685800"/>
            <a:ext cx="2666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ain.cpp (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testbench fil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angle 38"/>
          <p:cNvSpPr/>
          <p:nvPr/>
        </p:nvSpPr>
        <p:spPr>
          <a:xfrm>
            <a:off x="457200" y="1066680"/>
            <a:ext cx="8001000" cy="152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itialize and register global broker</a:t>
            </a:r>
            <a:br>
              <a:rPr sz="1500"/>
            </a:b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</a:t>
            </a:r>
            <a:r>
              <a:rPr b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ci_register_broker(new cci_utils::broker(“My Global Broker”));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stantiate the </a:t>
            </a:r>
            <a:r>
              <a:rPr b="0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bserver</a:t>
            </a: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class (which registers various callbacks to trace cci-parameters </a:t>
            </a:r>
            <a:br>
              <a:rPr sz="1500"/>
            </a:b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activities)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Later, instantiate the </a:t>
            </a:r>
            <a:r>
              <a:rPr b="0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meter_owner</a:t>
            </a: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module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bserver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bserver_inst;</a:t>
            </a: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                                              // A simple C++ Class</a:t>
            </a:r>
            <a:br>
              <a:rPr sz="1500"/>
            </a:b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meter_owner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m_owner(“param_owner”);</a:t>
            </a: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      </a:t>
            </a:r>
            <a:r>
              <a:rPr b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// </a:t>
            </a: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meter Owner module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Rectangle 40"/>
          <p:cNvSpPr/>
          <p:nvPr/>
        </p:nvSpPr>
        <p:spPr>
          <a:xfrm>
            <a:off x="3733920" y="2666880"/>
            <a:ext cx="1752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.cp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88" name="Straight Arrow Connector 43"/>
          <p:cNvCxnSpPr>
            <a:stCxn id="187" idx="2"/>
            <a:endCxn id="183" idx="0"/>
          </p:cNvCxnSpPr>
          <p:nvPr/>
        </p:nvCxnSpPr>
        <p:spPr>
          <a:xfrm flipH="1">
            <a:off x="2057040" y="3047760"/>
            <a:ext cx="255312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9" name="Straight Arrow Connector 45"/>
          <p:cNvCxnSpPr>
            <a:stCxn id="187" idx="2"/>
            <a:endCxn id="184" idx="0"/>
          </p:cNvCxnSpPr>
          <p:nvPr/>
        </p:nvCxnSpPr>
        <p:spPr>
          <a:xfrm>
            <a:off x="4610160" y="3047760"/>
            <a:ext cx="282024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0" name="Rectangle 46"/>
          <p:cNvSpPr/>
          <p:nvPr/>
        </p:nvSpPr>
        <p:spPr>
          <a:xfrm>
            <a:off x="228600" y="4267080"/>
            <a:ext cx="426708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OLE 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stantiate few cci-parameter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nf::cci_param&lt;int&gt;    *      int_param;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nf::cci_param&lt;float&gt; *     float_param;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Make changes to their values during simulati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Rectangle 47"/>
          <p:cNvSpPr/>
          <p:nvPr/>
        </p:nvSpPr>
        <p:spPr>
          <a:xfrm>
            <a:off x="4724280" y="4114800"/>
            <a:ext cx="419112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OLE 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et handle for the </a:t>
            </a:r>
            <a:r>
              <a:rPr b="0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lobal broker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ister callbacks for notifying creation of new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-parameter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ister other callback by getting hold of the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meter handle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Straight Connector 28"/>
          <p:cNvSpPr/>
          <p:nvPr/>
        </p:nvSpPr>
        <p:spPr>
          <a:xfrm flipH="1">
            <a:off x="7237440" y="41148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Rectangle 2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Straight Connector 28"/>
          <p:cNvSpPr/>
          <p:nvPr/>
        </p:nvSpPr>
        <p:spPr>
          <a:xfrm>
            <a:off x="2286000" y="41911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Rectangle 13"/>
          <p:cNvSpPr/>
          <p:nvPr/>
        </p:nvSpPr>
        <p:spPr>
          <a:xfrm>
            <a:off x="2666880" y="114300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Within Constructor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Straight Connector 28"/>
          <p:cNvSpPr/>
          <p:nvPr/>
        </p:nvSpPr>
        <p:spPr>
          <a:xfrm flipH="1">
            <a:off x="1598760" y="1676520"/>
            <a:ext cx="144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Rectangle 15"/>
          <p:cNvSpPr/>
          <p:nvPr/>
        </p:nvSpPr>
        <p:spPr>
          <a:xfrm>
            <a:off x="2971800" y="1828800"/>
            <a:ext cx="586728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et global broker hand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nf::cci_originator observer_originator("observer")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ci_broker_handle(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ci_get_global_broker(observer_originator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Rectangle 15"/>
          <p:cNvSpPr/>
          <p:nvPr/>
        </p:nvSpPr>
        <p:spPr>
          <a:xfrm>
            <a:off x="2819520" y="3733920"/>
            <a:ext cx="6248160" cy="167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ister a callback to notify the creation of cci-parameters of the parameter_owner modules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m_broker.register_create_callback(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sc_bind(&amp;ex20_observer::config_new_param_callback,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this,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sc_unnamed::_1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Rectangle 33"/>
          <p:cNvSpPr/>
          <p:nvPr/>
        </p:nvSpPr>
        <p:spPr>
          <a:xfrm>
            <a:off x="152280" y="914400"/>
            <a:ext cx="28958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4800600" y="1600200"/>
            <a:ext cx="35812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Various other callbacks registration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Straight Connector 28"/>
          <p:cNvSpPr/>
          <p:nvPr/>
        </p:nvSpPr>
        <p:spPr>
          <a:xfrm flipH="1">
            <a:off x="1598760" y="1676520"/>
            <a:ext cx="144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Rectangle 1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Rectangle 33"/>
          <p:cNvSpPr/>
          <p:nvPr/>
        </p:nvSpPr>
        <p:spPr>
          <a:xfrm>
            <a:off x="304920" y="838080"/>
            <a:ext cx="2895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Rectangle 15"/>
          <p:cNvSpPr/>
          <p:nvPr/>
        </p:nvSpPr>
        <p:spPr>
          <a:xfrm>
            <a:off x="2057400" y="2057400"/>
            <a:ext cx="7010280" cy="373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Within the callback implementation of the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onfig_new_param_callback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function, register other callback functions for monitoring </a:t>
            </a:r>
            <a:r>
              <a:rPr b="0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ad, write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activities on to the cci-parameter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// Get reference of newly created cci-parameter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bserver_base_handle = m_broker.get_param_handle(param_handle.get_name(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// Register pre-read, pre/post-write callback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bserver_cb.push_back(observer_base_handle.register_pre_read_callback(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&amp;ex20_observer::pre_read_callback,this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bserver_cb.push_back(observer_base_handle.register_pre_write_callback(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&amp;ex20_observer::pre_write_callback,this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bserver_cb.push_back(observer_base_handle.register_post_write_callback(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&amp;ex20_observer::post_write_callback,this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Rectangle 13"/>
          <p:cNvSpPr/>
          <p:nvPr/>
        </p:nvSpPr>
        <p:spPr>
          <a:xfrm>
            <a:off x="2743200" y="106668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Within Constructor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Rectangle 13"/>
          <p:cNvSpPr/>
          <p:nvPr/>
        </p:nvSpPr>
        <p:spPr>
          <a:xfrm>
            <a:off x="2895480" y="114300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Within Constructor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Straight Connector 28"/>
          <p:cNvSpPr/>
          <p:nvPr/>
        </p:nvSpPr>
        <p:spPr>
          <a:xfrm flipH="1">
            <a:off x="1902960" y="1523880"/>
            <a:ext cx="180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Rectangle 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Rectangle 33"/>
          <p:cNvSpPr/>
          <p:nvPr/>
        </p:nvSpPr>
        <p:spPr>
          <a:xfrm>
            <a:off x="304920" y="838080"/>
            <a:ext cx="2895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Rectangle 15"/>
          <p:cNvSpPr/>
          <p:nvPr/>
        </p:nvSpPr>
        <p:spPr>
          <a:xfrm>
            <a:off x="380880" y="1676520"/>
            <a:ext cx="44960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t default value to the integer-type cci-parameter</a:t>
            </a:r>
            <a:br>
              <a:rPr sz="1400"/>
            </a:br>
            <a:br>
              <a:rPr sz="1400"/>
            </a:br>
            <a:r>
              <a:rPr b="1" i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t_param  =  new cci::cnf::cci_param&lt;int&gt;(“int_param”, 10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Rectangle 15"/>
          <p:cNvSpPr/>
          <p:nvPr/>
        </p:nvSpPr>
        <p:spPr>
          <a:xfrm>
            <a:off x="4724280" y="2514600"/>
            <a:ext cx="37339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port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t_param</a:t>
            </a: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-parameter has been created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4724280" y="3276720"/>
            <a:ext cx="373392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trieve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Handle for the ‘int_param’ cci-parameter </a:t>
            </a:r>
            <a:br>
              <a:rPr sz="1400"/>
            </a:b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nd stores it to new_param_hand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Rectangle 15"/>
          <p:cNvSpPr/>
          <p:nvPr/>
        </p:nvSpPr>
        <p:spPr>
          <a:xfrm>
            <a:off x="4724280" y="4114800"/>
            <a:ext cx="39625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ister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re_read callback using </a:t>
            </a:r>
            <a:r>
              <a:rPr b="1" i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new_param_handle</a:t>
            </a:r>
            <a:br>
              <a:rPr sz="1400"/>
            </a:br>
            <a:r>
              <a:rPr b="1" i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re_write callback using new_param_handle</a:t>
            </a:r>
            <a:br>
              <a:rPr sz="1400"/>
            </a:b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ost_write callback using new_param_hand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3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Rectangle 16"/>
          <p:cNvSpPr/>
          <p:nvPr/>
        </p:nvSpPr>
        <p:spPr>
          <a:xfrm>
            <a:off x="3505320" y="114300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@ 0 n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Straight Connector 28"/>
          <p:cNvSpPr/>
          <p:nvPr/>
        </p:nvSpPr>
        <p:spPr>
          <a:xfrm flipH="1">
            <a:off x="1902960" y="1523880"/>
            <a:ext cx="180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Rectangle 33"/>
          <p:cNvSpPr/>
          <p:nvPr/>
        </p:nvSpPr>
        <p:spPr>
          <a:xfrm>
            <a:off x="304920" y="838080"/>
            <a:ext cx="2895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Rectangle 15"/>
          <p:cNvSpPr/>
          <p:nvPr/>
        </p:nvSpPr>
        <p:spPr>
          <a:xfrm>
            <a:off x="380880" y="1752480"/>
            <a:ext cx="30481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t  (arbitrary) new value to the </a:t>
            </a:r>
            <a:r>
              <a:rPr b="0" i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t_param</a:t>
            </a:r>
            <a:br>
              <a:rPr sz="1400"/>
            </a:br>
            <a:br>
              <a:rPr sz="1400"/>
            </a:br>
            <a:r>
              <a:rPr b="1" i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*int_param = 15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Rectangle 15"/>
          <p:cNvSpPr/>
          <p:nvPr/>
        </p:nvSpPr>
        <p:spPr>
          <a:xfrm>
            <a:off x="4648320" y="2362320"/>
            <a:ext cx="4038480" cy="144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port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_read activity on the ‘int_param’</a:t>
            </a:r>
            <a:br>
              <a:rPr sz="1400"/>
            </a:b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_write activity on the ‘int_param’</a:t>
            </a:r>
            <a:br>
              <a:rPr sz="1400"/>
            </a:b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_read activity on the ‘int_param’</a:t>
            </a:r>
            <a:br>
              <a:rPr sz="1400"/>
            </a:b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ost_write activity on the ‘int_param’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AutoShape 15"/>
          <p:cNvSpPr/>
          <p:nvPr/>
        </p:nvSpPr>
        <p:spPr>
          <a:xfrm>
            <a:off x="4191120" y="4419720"/>
            <a:ext cx="2438280" cy="99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675" y="2492"/>
                </a:moveTo>
                <a:lnTo>
                  <a:pt x="-5330" y="2492"/>
                </a:lnTo>
                <a:lnTo>
                  <a:pt x="-5330" y="-8688"/>
                </a:lnTo>
                <a:lnTo>
                  <a:pt x="8466" y="-21392"/>
                </a:lnTo>
              </a:path>
              <a:path w="21600" h="21600">
                <a:moveTo>
                  <a:pt x="-675" y="0"/>
                </a:moveTo>
                <a:lnTo>
                  <a:pt x="-675" y="2160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pre_read”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callback is called because value of the parameter is read within the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“pre_write”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“post_write”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callback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4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Straight Connector 28"/>
          <p:cNvSpPr/>
          <p:nvPr/>
        </p:nvSpPr>
        <p:spPr>
          <a:xfrm flipH="1">
            <a:off x="1902960" y="1523880"/>
            <a:ext cx="180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Rectangle 33"/>
          <p:cNvSpPr/>
          <p:nvPr/>
        </p:nvSpPr>
        <p:spPr>
          <a:xfrm>
            <a:off x="304920" y="838080"/>
            <a:ext cx="2895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Rectangle 15"/>
          <p:cNvSpPr/>
          <p:nvPr/>
        </p:nvSpPr>
        <p:spPr>
          <a:xfrm>
            <a:off x="380880" y="1676520"/>
            <a:ext cx="50292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reate and set default value to the float-type cci-parameter</a:t>
            </a:r>
            <a:br>
              <a:rPr sz="1400"/>
            </a:br>
            <a:br>
              <a:rPr sz="1400"/>
            </a:br>
            <a:r>
              <a:rPr b="1" i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loat_param  =  new cci::cnf::cci_param&lt;int&gt;(“float_param”, 12.345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Rectangle 15"/>
          <p:cNvSpPr/>
          <p:nvPr/>
        </p:nvSpPr>
        <p:spPr>
          <a:xfrm>
            <a:off x="4724280" y="2514600"/>
            <a:ext cx="37339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port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loat_param</a:t>
            </a: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-parameter has been created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Rectangle 15"/>
          <p:cNvSpPr/>
          <p:nvPr/>
        </p:nvSpPr>
        <p:spPr>
          <a:xfrm>
            <a:off x="4724280" y="3276720"/>
            <a:ext cx="388620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trieve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Handle for the ‘float_param’ cci-parameter </a:t>
            </a:r>
            <a:br>
              <a:rPr sz="1400"/>
            </a:b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nd stores it to new_param_hand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Rectangle 15"/>
          <p:cNvSpPr/>
          <p:nvPr/>
        </p:nvSpPr>
        <p:spPr>
          <a:xfrm>
            <a:off x="4724280" y="4114800"/>
            <a:ext cx="39625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ister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re_read callback using </a:t>
            </a:r>
            <a:r>
              <a:rPr b="1" i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new_param_handle</a:t>
            </a:r>
            <a:br>
              <a:rPr sz="1400"/>
            </a:br>
            <a:r>
              <a:rPr b="1" i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re_write callback using new_param_handle</a:t>
            </a:r>
            <a:br>
              <a:rPr sz="1400"/>
            </a:b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ost_write callback using new_param_hand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Rectangle 16"/>
          <p:cNvSpPr/>
          <p:nvPr/>
        </p:nvSpPr>
        <p:spPr>
          <a:xfrm>
            <a:off x="3657600" y="114300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@ 5 n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5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(ex20_Tracing_Parameter_Activity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Prior to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C_TOR] : Creating new integer type cci-parameter with default value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Retrieving handle for newly created cci_parame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Parameter Name : param_owner.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has been creat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Parameter Value :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Registering other callbacks on the newly created cci-paramete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Setting new value to the 'int' type param to '15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pre_write_cb] : Retrieving details of new cci-parame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pre_write_cb] : Parameter Name : param_owner.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post_write_cb] : Retrieving details of new cci-parame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post_write_cb] : Parameter Name : param_owner.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@ 5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Creating new 'double' type cci-parameter with default value : 12.34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7T01:25:28Z</dcterms:modified>
  <cp:revision>82</cp:revision>
  <dc:subject/>
  <dc:title>ex20_Tracing_Parameter_Activi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01:25:27Z</vt:lpwstr>
  </property>
  <property fmtid="{D5CDD505-2E9C-101B-9397-08002B2CF9AE}" pid="5" name="TitusGUID">
    <vt:lpwstr>c510a3f5-05aa-41bf-bec3-42483cac079d</vt:lpwstr>
  </property>
</Properties>
</file>