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282FD-47FD-4F39-82A1-B3CED7468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0A3F8-CDA6-48F9-A452-BE0528776D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4AF15-02FD-488A-8CBA-1BBB35D593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74D72-4EFB-4705-BE53-6CCBC3FB15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FEDA4-D844-4D5E-B63E-CF40A63605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E8A10-783D-4D9E-A73F-53E2F78F72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2CDAB-A76F-4771-BEDC-86719DB252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2D012-E057-4647-9FAC-6383568E2C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CD80B-1F63-4901-915C-7CFD735BB2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35DBB-F435-4B1F-9D17-51442AC4C5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ADA32-6834-47DF-AF93-BEEBDD156C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6DD75-2DA3-431D-B484-EC7FEC310C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A1C84-4483-43D4-AFC9-7757B9B25B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3A435-C32C-4E97-89A6-C9E1AE1910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EBC7D-5D03-4140-8E37-47C9502B1C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6507F-FDC9-494D-BA66-462E45A7A9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2C78D-A72F-4399-B6D4-F7A323F7F6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BD596-2899-4344-BCAD-72C371A576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A853C-FECD-4E9C-87BA-A46DDB6459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44C4D-2112-4864-89F3-CF31AF5912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08F71-D946-4377-8882-03C077F2F7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A996D-EC3E-4E0E-B937-FB974EE876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BE7FD-0E60-4269-8E9D-D5753D9750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37C3C-9BC4-43EE-8F87-0AF23F5D51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E9AF3-B171-4AC5-85EF-051D3A4D4D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4611-AD5B-4989-9340-D9C9902C4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99A3-6C0B-4484-8E7F-D86DB385C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0E16-2A2B-4A55-9C99-72162A4D6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C3EB8-3554-42A0-8C53-09FA62647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64B23-F152-4733-A8DF-1E77732E1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FC2D-A374-4A2D-90FD-76E8F46E2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D012-152E-406C-8A59-F576A222E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56ED-1FCD-4EA4-BB56-9D8147865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5BB0-6CA0-4C4F-A1C1-3CA052804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EADE-EFEA-4875-8576-F32DE1201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E8D5-39EF-4BEA-8021-42AD86E16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6E16-0471-47C5-B446-AD9FA2BE8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4B97F-A709-4BB7-A38A-89A0FE05E06B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3809880" y="1425600"/>
            <a:ext cx="518184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latest write originator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latest_write_originator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latest write originator 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get_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latest_write_originator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get_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F211B-CD70-4C41-A83C-ABBB93B91968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:VisualMarkings=</cp:keywords>
  <dc:language>en-US</dc:language>
  <cp:lastModifiedBy>Wieman, Trevor</cp:lastModifiedBy>
  <cp:lastPrinted>2017-01-29T19:35:36Z</cp:lastPrinted>
  <dcterms:modified xsi:type="dcterms:W3CDTF">2017-12-15T20:28:53Z</dcterms:modified>
  <cp:revision>126</cp:revision>
  <dc:subject/>
  <dc:title>ex7_Parameter_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28:52Z</vt:lpwstr>
  </property>
  <property fmtid="{D5CDD505-2E9C-101B-9397-08002B2CF9AE}" pid="5" name="TitusGUID">
    <vt:lpwstr>9c3cd9ca-52ed-4274-8e98-0bc921084663</vt:lpwstr>
  </property>
</Properties>
</file>